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87C-FFC6-4A67-88CC-D42BCC7D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41A-0A5E-4E5E-971D-C71D4B35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331-DAB8-4F4C-AEBB-B1EFD6D7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54A-2917-4169-812E-879734C0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AF99-EC49-435C-98A2-4B7D4E76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086D-8A5D-43A5-9906-0C57C1CB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27A5-0148-48FA-9D85-2E2660A0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49DE-6D67-4EA5-8EF2-B1F1A253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042E-6AEC-4E2F-B208-67D9014D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3CF8-2B8C-4D3B-85BC-A1B03EE4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E644-10AD-415F-9CA3-148010A8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709-A65A-4D97-8087-C03068AB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4842-B1E0-4DBA-9312-C9D29C6B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EEE5-C507-4012-8477-836A338B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C423-078F-4854-8D74-382338E7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0B07-608F-4B5F-A6B5-E917C576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100C-F146-4C8F-A631-0BFCEEFB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474-1C66-47E0-8445-8B163B26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191-AD23-4A2A-B135-46C0F577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F8B-93CB-4565-872B-2297DFAF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44F-375D-4E8D-8BA6-9A5AF3C9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8EA-B9EB-41D3-992F-20B7B42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B5D-B8B7-4081-B75B-35888F1E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F41-B9A5-4E30-9D55-A3314F12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2214-6B3E-4991-80F3-D65BB11C3E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C057-D3A1-47D0-BB88-114A2FD32C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cssa.org/newsroom/scholarships/great8sci/Matter/Choose_Matter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assermolek&#252;leInTr&#246;pfchen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What are Solids, Liquids, and Gases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icle Sp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ow do solids, liquids, and gases compa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quid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sity- much denser than gases, not compre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luid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diffuse slower than gases, still “flo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Viscos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easure of resistance to 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 of temperature- higher temp, lower visco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03848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quid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urface T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s drops and menis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apillary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er can climb narrow tu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Diagram of the forces on a molecule of liqui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971800"/>
            <a:ext cx="3522600" cy="3562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297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id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sity- more dense than gases and liquids and incompre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ystalline Sol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yst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795920" cy="5867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0" t="47895" r="56875" b="6515"/>
          <a:stretch/>
        </p:blipFill>
        <p:spPr>
          <a:xfrm>
            <a:off x="1143000" y="4343400"/>
            <a:ext cx="222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id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lecular Solids-dispersion, dipole, or H-bonds (ex: sug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valent Network Solids- covalent bonds with self (ex: diamon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nic Solids- ionic attraction (ex: sal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llic Solids- mobile electrons (ex: copp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orphous Solids- irregular pattern           (ex: gla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 395 # 13-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 403 # 17-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sent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60084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ase 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066680" y="1608120"/>
            <a:ext cx="647712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3520" y="849240"/>
            <a:ext cx="8229600" cy="6008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eating Cur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dothermic Phase 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lting- solid absorbs energy until particles have enough speed to break free of IM forces holding them in 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porization-liquid absorbs energy until particles have enough speed to break free of IM forces holding them close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1762200"/>
            <a:ext cx="2631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inetic Molecular Theory (KM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781200"/>
            <a:ext cx="5486400" cy="3259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atter is in constant, random moti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ses- particles move freely and independently of one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quids- particles are attracted to one another, but are still able to slide past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ids- particles are strongly attracted to each other and shake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iquid to Ga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poration- occurs at su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iling- occurs throughout when vapor pressure equals atmospheric pres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blimation-solid to g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othermic Phase 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666880" y="2039760"/>
            <a:ext cx="64771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hase Diagram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 409 # 24-2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, sentences pl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 4 in pac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Assignment due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ay before the test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e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ases and KM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 gas particles are super tiny and hold no actual volu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les move in straight lines until they col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isions a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as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o kinetic energy is l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as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16980" t="19765" r="0" b="4247"/>
          <a:stretch/>
        </p:blipFill>
        <p:spPr>
          <a:xfrm>
            <a:off x="380880" y="1600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ession- gases can be compressed because they have very LOW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sion- gases will fill any size container because the particles are not held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ham’s La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ovement of one material through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ffu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gas particles escaping through tiny holes in the cont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ham’s L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at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√molar ma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√molar ma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6985" t="0" r="16985" b="0"/>
          <a:stretch/>
        </p:blipFill>
        <p:spPr>
          <a:xfrm>
            <a:off x="5410080" y="1752480"/>
            <a:ext cx="26672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ases and Press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force per unit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es cause pressure by colliding with the walls of their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arome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measures atmospheric pres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anome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measures vapor pres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lton’s Law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03640" y="1762200"/>
            <a:ext cx="50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its of Press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atmosphere= normal atmospheric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tm = 760 mmHg = 14.7 psi = 101,325 Pascals = 101.32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5 atm = ? mmH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804 mmHg = ? ps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 388-392 # 1-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all mathematical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swer in full sent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molecular Fo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0960" y="2033640"/>
            <a:ext cx="3990960" cy="3781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termolecular Forces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forces that exist between particles of a sub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Types (in order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reng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persion- caused by electron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pole- caused by polar attr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drogen Bonds- caused by hydrogen and N,O,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7:32:23Z</dcterms:created>
  <dc:creator>udsd</dc:creator>
  <dc:description/>
  <dc:language>en-US</dc:language>
  <cp:lastModifiedBy>udsd</cp:lastModifiedBy>
  <dcterms:modified xsi:type="dcterms:W3CDTF">2007-04-18T15:24:01Z</dcterms:modified>
  <cp:revision>30</cp:revision>
  <dc:subject/>
  <dc:title>What are Solids, Liquids, and Gases?</dc:title>
</cp:coreProperties>
</file>